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AD6A-9DF1-4DAB-AFFE-D70B17CF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0729-EF01-4B17-B88E-29415EE5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0CED-369C-41E4-B516-65D330D18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48C0-E1B4-43BC-A37A-73615FB14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5744-5089-4534-88BC-1A575E2F9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77A9-463B-4592-8629-3663A73A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C87A-2D51-4DEF-A62E-41BC8F5B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2B41-84BF-4029-9714-ED723728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C7A2-456B-43E1-AB22-11F18436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19F4-6DF2-4BA2-BF28-C79BF997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8521-C473-45A3-8F7B-5CF4ED00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F1B6-16D4-4B62-8B01-2FAE41A0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0851-048D-4977-BFF8-DFD8F607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9D88-76E7-4A5C-A09B-450588E8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47CC-97D3-4DE7-BE06-5AA7642D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BC51-A024-4D50-9D95-33CE230A2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ECFE-5511-44CA-8311-DC4C7FE64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0C54-F0CC-40EC-87BB-2403A3F4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48EB-DD43-4ED5-85F5-0B8FFD72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F9F3-481A-49B8-8F22-6319E44D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7804-056B-4595-9454-60ACF56E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1D15-FF2A-4299-9CE6-3308558F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F610-03A5-4E6F-94E9-128E2751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4588-73EA-427A-ABCD-5A088009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73BB-7D53-42E9-9E93-18F030669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480B-969F-47A0-A619-7326529B0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c4fc2"/>
                </a:solidFill>
                <a:latin typeface="Arial"/>
              </a:rPr>
              <a:t>Steps for Making and </a:t>
            </a:r>
            <a:br>
              <a:rPr sz="3600"/>
            </a:br>
            <a:r>
              <a:rPr b="0" lang="en-US" sz="3600" spc="-1" strike="noStrike">
                <a:solidFill>
                  <a:srgbClr val="5c4fc2"/>
                </a:solidFill>
                <a:latin typeface="Arial"/>
              </a:rPr>
              <a:t>Interpreting a Graph</a:t>
            </a:r>
            <a:r>
              <a:rPr b="0" lang="en-US" sz="3200" spc="-1" strike="noStrike">
                <a:solidFill>
                  <a:srgbClr val="5c4fc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52680" y="3003480"/>
            <a:ext cx="147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819520" y="3117960"/>
            <a:ext cx="352404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23840" y="533520"/>
            <a:ext cx="81201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066320" y="2286000"/>
            <a:ext cx="716292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18181"/>
                </a:solidFill>
                <a:latin typeface="Arial"/>
              </a:rPr>
              <a:t>The scale can be different for each axis. Once a scale is chosen, keep it consistent. Don’t start out using a scale of 5 units and then switch to 10 units when the data doesn’t f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5480" y="762120"/>
            <a:ext cx="656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18181"/>
                </a:solidFill>
                <a:latin typeface="Arial"/>
              </a:rPr>
              <a:t>1.Choose a scale for each ax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18181"/>
                </a:solidFill>
                <a:latin typeface="Arial"/>
              </a:rPr>
              <a:t>2.</a:t>
            </a:r>
            <a:r>
              <a:rPr b="0" lang="en-US" sz="4800" spc="-1" strike="noStrike">
                <a:solidFill>
                  <a:srgbClr val="81818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18181"/>
                </a:solidFill>
                <a:latin typeface="Arial"/>
              </a:rPr>
              <a:t>The format for the title of the graph is “</a:t>
            </a:r>
            <a:r>
              <a:rPr b="0" lang="en-US" sz="2800" spc="-1" strike="noStrike">
                <a:solidFill>
                  <a:srgbClr val="818181"/>
                </a:solidFill>
                <a:latin typeface="Arial"/>
                <a:ea typeface="ヒラギノ角ゴ ProN W3"/>
              </a:rPr>
              <a:t>y</a:t>
            </a:r>
            <a:r>
              <a:rPr b="0" lang="en-US" sz="2800" spc="-1" strike="noStrike">
                <a:solidFill>
                  <a:srgbClr val="818181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818181"/>
                </a:solidFill>
                <a:latin typeface="Arial"/>
              </a:rPr>
              <a:t>axis </a:t>
            </a:r>
            <a:br>
              <a:rPr sz="2800"/>
            </a:br>
            <a:r>
              <a:rPr b="0" lang="en-US" sz="2800" spc="-1" strike="noStrike">
                <a:solidFill>
                  <a:srgbClr val="818181"/>
                </a:solidFill>
                <a:latin typeface="Arial"/>
              </a:rPr>
              <a:t>     variable vs x-axis variable”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438280" y="2185920"/>
            <a:ext cx="487692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81630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18181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818181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818181"/>
                </a:solidFill>
                <a:latin typeface="Arial"/>
              </a:rPr>
              <a:t>Determine</a:t>
            </a:r>
            <a:r>
              <a:rPr b="0" lang="en-US" sz="2400" spc="-1" strike="noStrike">
                <a:solidFill>
                  <a:srgbClr val="818181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818181"/>
                </a:solidFill>
                <a:latin typeface="Arial"/>
              </a:rPr>
              <a:t>the shape of the graph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6859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18181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818181"/>
                </a:solidFill>
                <a:latin typeface="Arial"/>
              </a:rPr>
              <a:t>If the points are roughly in a straight line, draw the line of best fit. DON’T connect the dots! If the points form a curve, draw the best-fit cur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18181"/>
                </a:solidFill>
                <a:latin typeface="Arial"/>
              </a:rPr>
              <a:t>Possible Sha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bol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bo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133720" y="47239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33720" y="5562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191120" y="47239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91120" y="5562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095880" y="47239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95880" y="5562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133720" y="49528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91120" y="4876920"/>
            <a:ext cx="990360" cy="685800"/>
          </a:xfrm>
          <a:custGeom>
            <a:avLst/>
            <a:gdLst/>
            <a:ahLst/>
            <a:rect l="l" t="t" r="r" b="b"/>
            <a:pathLst>
              <a:path w="624" h="336">
                <a:moveTo>
                  <a:pt x="0" y="336"/>
                </a:moveTo>
                <a:cubicBezTo>
                  <a:pt x="84" y="324"/>
                  <a:pt x="168" y="312"/>
                  <a:pt x="240" y="288"/>
                </a:cubicBezTo>
                <a:cubicBezTo>
                  <a:pt x="312" y="264"/>
                  <a:pt x="368" y="240"/>
                  <a:pt x="432" y="192"/>
                </a:cubicBezTo>
                <a:cubicBezTo>
                  <a:pt x="496" y="144"/>
                  <a:pt x="560" y="72"/>
                  <a:pt x="62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99280" y="4800600"/>
            <a:ext cx="635040" cy="609480"/>
          </a:xfrm>
          <a:custGeom>
            <a:avLst/>
            <a:gdLst/>
            <a:ahLst/>
            <a:rect l="l" t="t" r="r" b="b"/>
            <a:pathLst>
              <a:path w="400" h="384">
                <a:moveTo>
                  <a:pt x="16" y="0"/>
                </a:moveTo>
                <a:cubicBezTo>
                  <a:pt x="8" y="44"/>
                  <a:pt x="0" y="88"/>
                  <a:pt x="16" y="144"/>
                </a:cubicBezTo>
                <a:cubicBezTo>
                  <a:pt x="32" y="200"/>
                  <a:pt x="48" y="296"/>
                  <a:pt x="112" y="336"/>
                </a:cubicBezTo>
                <a:cubicBezTo>
                  <a:pt x="176" y="376"/>
                  <a:pt x="288" y="380"/>
                  <a:pt x="400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18181"/>
                </a:solidFill>
                <a:latin typeface="Arial"/>
              </a:rPr>
              <a:t>4. Interpreting the Graph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62120" y="2209680"/>
          <a:ext cx="8110440" cy="3200400"/>
        </p:xfrm>
        <a:graphic>
          <a:graphicData uri="http://schemas.openxmlformats.org/drawingml/2006/table">
            <a:tbl>
              <a:tblPr/>
              <a:tblGrid>
                <a:gridCol w="2027160"/>
                <a:gridCol w="2028960"/>
                <a:gridCol w="2027160"/>
                <a:gridCol w="202716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18181"/>
                          </a:solidFill>
                          <a:latin typeface="Arial"/>
                        </a:rPr>
                        <a:t>Sh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18181"/>
                          </a:solidFill>
                          <a:latin typeface="Arial"/>
                        </a:rPr>
                        <a:t>Lin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18181"/>
                          </a:solidFill>
                          <a:latin typeface="Arial"/>
                        </a:rPr>
                        <a:t>Parabol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18181"/>
                          </a:solidFill>
                          <a:latin typeface="Arial"/>
                        </a:rPr>
                        <a:t>Hyperbol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18181"/>
                          </a:solidFill>
                          <a:latin typeface="Arial"/>
                        </a:rPr>
                        <a:t>Relation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818181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200" spc="-1" strike="noStrike">
                          <a:solidFill>
                            <a:srgbClr val="818181"/>
                          </a:solidFill>
                          <a:latin typeface="Arial"/>
                        </a:rPr>
                        <a:t>y” is directly related to “x”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818181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200" spc="-1" strike="noStrike">
                          <a:solidFill>
                            <a:srgbClr val="818181"/>
                          </a:solidFill>
                          <a:latin typeface="Arial"/>
                        </a:rPr>
                        <a:t>y” is directly related to “x”</a:t>
                      </a:r>
                      <a:r>
                        <a:rPr b="0" lang="en-US" sz="2200" spc="-1" strike="noStrike" baseline="30000">
                          <a:solidFill>
                            <a:srgbClr val="818181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818181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200" spc="-1" strike="noStrike">
                          <a:solidFill>
                            <a:srgbClr val="818181"/>
                          </a:solidFill>
                          <a:latin typeface="Arial"/>
                        </a:rPr>
                        <a:t>y” is inversely related to “x”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18181"/>
                          </a:solidFill>
                          <a:latin typeface="Arial"/>
                        </a:rPr>
                        <a:t>Equ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18181"/>
                          </a:solidFill>
                          <a:latin typeface="Arial"/>
                        </a:rPr>
                        <a:t>y = k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18181"/>
                          </a:solidFill>
                          <a:latin typeface="Arial"/>
                        </a:rPr>
                        <a:t>y = kx</a:t>
                      </a:r>
                      <a:r>
                        <a:rPr b="0" lang="en-US" sz="2800" spc="-1" strike="noStrike" baseline="30000">
                          <a:solidFill>
                            <a:srgbClr val="818181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18181"/>
                          </a:solidFill>
                          <a:latin typeface="Arial"/>
                        </a:rPr>
                        <a:t>y = k/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2:34:22Z</dcterms:created>
  <dc:creator>Parkland High School</dc:creator>
  <dc:description/>
  <dc:language>en-US</dc:language>
  <cp:lastModifiedBy>Parkland High School</cp:lastModifiedBy>
  <dcterms:modified xsi:type="dcterms:W3CDTF">2011-06-10T13:50:46Z</dcterms:modified>
  <cp:revision>8</cp:revision>
  <dc:subject/>
  <dc:title>  STEPS TO FOLLOW WHEN GRAPHING </dc:title>
</cp:coreProperties>
</file>